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6B33-B29C-48BF-9A75-AD05A565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825E-954F-40AC-9B61-11F62EDF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34A9-1356-4FA4-B017-AF142C91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C502-FFD0-4502-8878-506D2145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2892-95EF-4746-939F-1098E16A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62EE-B00B-4001-B388-47535475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96A4-ED12-45EE-BF64-3B36D7D9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CBB4-6F94-451F-AF6E-2B86A812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1638-4B75-4B02-A5D4-9D23645F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A5D6-03EE-4189-BDBB-5D79A4E7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5AF3-B1F0-4C39-B9B8-548F63FF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2C01-6AC2-41B5-8CBA-6F2F75BD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7A35-D21F-475E-9D73-87459167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42C4-1939-4DA0-804F-091F6655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AEDD-E021-4188-BAE4-EBC22198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2D58-19AC-42CF-BAA8-3D98FA4D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5CF1-9D1D-4D60-925A-00E3C5A1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A935-4075-4E8D-A36C-AEC02597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F980-7B12-4742-9F90-27624B9E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82C3-3B1D-4D7D-B77F-2BFE213C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B4A6-1A86-473C-A4E3-00E81EFF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E45D-99BC-4825-8893-14372364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932C-7BBA-4021-B854-44A77E80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F745-71AE-4372-A457-45C852C4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2101-BB7B-4300-8B49-1831798C95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371C-3FFB-4626-85F1-FD62E6E87D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b7"/>
                </a:solidFill>
                <a:latin typeface="Broadway"/>
              </a:rPr>
              <a:t>MEMOIRS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0" y="2398680"/>
            <a:ext cx="237168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A MEMOIR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moir is not what happens, but the person to whom things happen.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Virginia Woo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11680" y="23331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Virginia Woolf"/>
          <p:cNvPicPr/>
          <p:nvPr/>
        </p:nvPicPr>
        <p:blipFill>
          <a:blip r:embed="rId1"/>
          <a:stretch/>
        </p:blipFill>
        <p:spPr>
          <a:xfrm>
            <a:off x="5562720" y="3276720"/>
            <a:ext cx="1523880" cy="254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3809880" y="2975040"/>
          <a:ext cx="1339920" cy="517320"/>
        </p:xfrm>
        <a:graphic>
          <a:graphicData uri="http://schemas.openxmlformats.org/drawingml/2006/table">
            <a:tbl>
              <a:tblPr/>
              <a:tblGrid>
                <a:gridCol w="133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7924680" cy="1371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Memoir is a window into a life.”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William Zins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2081160" cy="3121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2081160" cy="3121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04920" y="2666880"/>
            <a:ext cx="2081160" cy="3121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514600" y="3048120"/>
            <a:ext cx="3597120" cy="2396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248520" y="2133720"/>
            <a:ext cx="2643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95280" y="228600"/>
            <a:ext cx="6858000" cy="2590920"/>
          </a:xfrm>
          <a:prstGeom prst="rect">
            <a:avLst/>
          </a:prstGeom>
          <a:solidFill>
            <a:srgbClr val="ff66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ir is not the whole head of h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one or two strands of hair.”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Jean Lit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49532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38080" y="762120"/>
            <a:ext cx="7467840" cy="2743200"/>
          </a:xfrm>
          <a:prstGeom prst="ellipse">
            <a:avLst/>
          </a:prstGeom>
          <a:solidFill>
            <a:srgbClr val="99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memoir will come not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our memories but al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our imagination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y Calk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29000" y="3809880"/>
            <a:ext cx="2895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19320" y="76212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ge Canadian Dictionary:  “Memoir: n. a record of a person’s own experienc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30492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haracteristics of a Memoir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007480" cy="5029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moir is a story about something that happened to the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uthor tells the story from the first person point of view (“I”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irs often make the reader feel an emotion that the writer is recalling (fear, anger, happiness, sadness, etc.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irs are often stories about events that are  important to the wri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uthor doesn’t tell how he or she felt about the event, but shows you through the actions and conversations of the characters in the memoir and through sensory detai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moir is not an autobiography.  It is about a single event in the writer’s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0:37:02Z</dcterms:created>
  <dc:creator>nbdoe</dc:creator>
  <dc:description/>
  <dc:language>en-US</dc:language>
  <cp:lastModifiedBy>nbdoe</cp:lastModifiedBy>
  <dcterms:modified xsi:type="dcterms:W3CDTF">2007-09-24T01:41:03Z</dcterms:modified>
  <cp:revision>3</cp:revision>
  <dc:subject/>
  <dc:title>MEMOIRS</dc:title>
</cp:coreProperties>
</file>